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explode.wav" ContentType="audio/x-wav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6FC-168A-4103-A2F4-1EBF1BA7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E27-31FE-49EE-AEC3-819799E5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66A-99E8-4C1B-84AB-8E58201A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D4D-E8DC-424D-9CF5-483FE32C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EBCA-68D5-4039-8996-BE03B956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27D5-A285-4A9F-9713-06805EAE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3BE4-4504-4EA5-9BC4-97F04E27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BFD8-3B9D-4E60-B4EB-2899C32E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B3AC-9653-4043-876E-EBFD0C76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E370-803A-4C9A-B27E-4D6F1B9B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7FB2-178C-4616-9E24-332DA1AB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1C8-53E9-475A-802C-52E69CB3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2B76-CAA6-4169-BF21-AB21036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8E39-240D-4092-B359-EBF7C358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B91B-F159-48AD-B5ED-9534C27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840A-4FE3-4321-8F87-8BABAB08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D9D7-BDF1-47E6-9884-7BBABFAD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C37-73CA-4B21-9B88-B2E73524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368-E2AD-497F-96F0-3693AE2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6CC-8A3A-4D7E-ADBE-0C338E80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8BD-686A-40E4-8CD0-1C5D7776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29C-028D-4596-BA58-7843B5C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27A-DDDC-4583-82F8-8A3136AD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15F-3ABF-41AC-856C-C3A65DCE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9167-911D-4328-A8E2-11E3F4911CC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42E0-43C0-4DD6-A0F5-311CE02951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pdlp.com/escritor.php?id=2378" TargetMode="External"/><Relationship Id="rId2" Type="http://schemas.openxmlformats.org/officeDocument/2006/relationships/hyperlink" Target="http://www.epdlp.com/escritor.php?id=2378" TargetMode="External"/><Relationship Id="rId3" Type="http://schemas.openxmlformats.org/officeDocument/2006/relationships/hyperlink" Target="http://www.epdlp.com/escritor.php?id=237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pasajero.com/Estudiantes1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La “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eneraci</a:t>
            </a: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ón del 98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y el Modernism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Miguel de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Unamuno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1864-1936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533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040360" y="1676520"/>
            <a:ext cx="391644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2743200"/>
            <a:ext cx="2133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sad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ayis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tur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onologí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24280" y="609120"/>
            <a:ext cx="4191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64 Miguel de Unamuno y Jugo nace en Bilbao el 29 de septiemb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73 Sitio y bombardeo de Bilbao por los carlistas. Se interrumpen las clases de Unamu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78 Crisis religiosa de Unamu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1 En enero se casa con Concepción Lizarraga. En junio entabla amistad con Ángel Ganivet y aprueba oposiciones a la Cátedra de Griego en la Universidad de Salamanca. Se instala en dicha ciu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a su vida en Salamanca, salvo los períodos de exilio y deportación que sufre por sus ideas polític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cia 1897 experimentó una crisis personal que agudiza sus preocupaciones de carácter religi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2800" y="1295280"/>
            <a:ext cx="381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onologí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19720" y="380880"/>
            <a:ext cx="44956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 Tomó posesión del cargo de rector de la Universidad que perdió en 1914 por declararse partidario de los alia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24 Deportado por su oposición a la dictadura de Primo de Rivera, a Fuerteventura (Canarias). Se exilia en París y luego en Hendaya, donde vivió hasta 1930. Pierde la cátedr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30 Unamuno regresó a España, se le concedió la cátedra de Historia de la Lengua Español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31 Nombrado de nuevo rector de la Universidad pero despedido del puesto por su simpatía por la rebelión del General Francisco Franc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36 Reinstaurado como rector por Franco pero perdió el puesto por su desaprobación de los nacionalistas. Murió en Salamanca el 31 de diciemb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9440" y="1523880"/>
            <a:ext cx="339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ay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da de Don Quijote y Sanc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0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l sentimiento trágico de la vida en los hombres y en los puebl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1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a agonía del Cristianis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26-1931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eb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1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el Sánche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1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n Manuel Bueno, Márt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3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risto de Velázquez” (1920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Ramón del Valle-Inclán (1866-193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13280" y="1981080"/>
            <a:ext cx="3697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velista y cuent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ramatu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El pasa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onata de otoñ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(1902) Marqués de Bradomín: “un don Juan feo, católico y sentiment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28680" y="1981080"/>
            <a:ext cx="337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osarito”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 Juan Manuel de Montenegro--pariente del Marqués de Bradomí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patriarca galle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señor feudal, bárbaro, arrogante, despótico, mujeriego, rebelde, violento y cru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osa, justiciera y leal, vigoroso, lleno de valentí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3589200" cy="5029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172200" y="6400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Jardín de umbr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Modernismo y decadentism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racter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ísticas del modernism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va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ticis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ticonformis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ontra del espíritu materialista y utilitario del siglo X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xotismo o regreso a un pasado aristocrá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Influenci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arnasianism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perfección formal, alejamiento de la realidad, afición por la mitología greco-latina, nórdica y oriental; gusto de lo estético y decora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mbolism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búsqueda de otras realidades escondidas de las cosas (los símbolos) y la correspondencia que existe entre éstos y nuestras sensaciones (color, sonido, mús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Lengua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pela a todos los senti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mpleo de lenguaje figurado, por 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áf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if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aciones y sím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est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etivación abund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Crisis de fin de sig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068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eoría del átomo (Rutherfo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cubrimiento de la radioactividad (Cur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eoría de la Relatividad (Einste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98720" y="1981080"/>
            <a:ext cx="36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Adelantos tecnológicos: la modern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068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cinematógraf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automó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teléfo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av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loj eléctr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644920"/>
            <a:ext cx="37022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Nuevas corrientes del pensamient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sicoanálisis (Freu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rxismo, cobra mayor impor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istencialismo (el hombre nace para mori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l término: Generación del 9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068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zorín (José Martínez Ruiz) propone el término en unos artículos de 19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cluye a los siguientes autores: Unamuno, Valle-Inclán, Baroja, Maeztu, A. Machado, Azorín, Ganiv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33520" y="1981080"/>
            <a:ext cx="318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189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32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plosión del Maine en Santiago de Cu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uerra con Estados Unidos: comienza el 23 de abr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strucción de flotas españolas del pacífico y del ca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tado de París: 10 de diciemb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2630520"/>
            <a:ext cx="4535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fect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érdida de las últimas coloni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ientes: Cuba y Filipi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orados de EEUU: Puerto Rico y Gu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sis en España: fin del impe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ectuales tratan de comprender la esencia de Españ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Requisitos generacionales (según Pedro Salinas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acimientos en años poco distantes (1864-187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ción intelectual semej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laciones entre escri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rticipación en actos colec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encia de un guía (Kierkegaard, Nietzsche, Schopenhau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nguaje gener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uptura con la generación anterior (realismo, naturalis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Problemas con este concept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paración de modernismo y 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deologías distin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la juventu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muno – PSOE, marx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eztu – anhelos socialis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zorín – anarqu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Baroja – simpatiza con el anarqu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volución de ide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egación por algunos supuestos miembros de la generación (Baroja, Maezt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cepto tomado de la soci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3:51:56Z</dcterms:created>
  <dc:creator>Gabriela Pozzi</dc:creator>
  <dc:description/>
  <dc:language>en-US</dc:language>
  <cp:lastModifiedBy>WinuE</cp:lastModifiedBy>
  <dcterms:modified xsi:type="dcterms:W3CDTF">2009-03-31T18:12:30Z</dcterms:modified>
  <cp:revision>36</cp:revision>
  <dc:subject/>
  <dc:title>La “Generación del 98”</dc:title>
</cp:coreProperties>
</file>